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5E9F-B643-4BAD-9C05-8E9737E82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FB40-E1C2-4956-842F-88AE1919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42E1-C766-42AF-AB0C-B5CC4168E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756B-0E39-461F-A774-0CDF03219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FD63-777D-4E2C-B122-F93BFA0B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1664-6587-4669-A56A-3BCA92E84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39C5-9828-4069-9980-9D315A2C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D5E0-21D3-4FF5-BC46-A7B7C8C3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94E0-EE64-4DF6-8528-35532D06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1A8B-E26B-4443-AB3F-DD3AE3C1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2D7D-F2F9-4369-8D54-A24DF3C4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FE8F-87C1-44CC-B842-EB484B2C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A780-1CBF-4347-926B-F8BAE44C2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52280"/>
            <a:ext cx="8686800" cy="655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553080" y="2362320"/>
            <a:ext cx="1182960" cy="1212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974880" cy="1295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981080" y="304920"/>
            <a:ext cx="1211400" cy="160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095880" y="304920"/>
            <a:ext cx="1122480" cy="1218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rcRect l="0" t="0" r="62115" b="0"/>
          <a:stretch/>
        </p:blipFill>
        <p:spPr>
          <a:xfrm>
            <a:off x="7543800" y="228600"/>
            <a:ext cx="1028880" cy="1523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1143000" y="2743200"/>
            <a:ext cx="1368360" cy="995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3505320" y="2362320"/>
            <a:ext cx="874440" cy="1409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5105520" y="4495680"/>
            <a:ext cx="687240" cy="1282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2286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68580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81952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2286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90920" y="2286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2743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324480" y="18288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63244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8381880" y="1599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391520" y="1828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40384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2670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85800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1008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657600" y="5943600"/>
            <a:ext cx="480060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ahoma"/>
              </a:rPr>
              <a:t>la mia famiglia</a:t>
            </a:r>
            <a:endParaRPr b="0" i="1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152280"/>
            <a:ext cx="8686800" cy="655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2286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68580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81952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52480" y="2286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2286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2743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24480" y="18288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3244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8381880" y="1599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391520" y="1828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67080" y="40384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2670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85800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1008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657600" y="5943600"/>
            <a:ext cx="480060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ahoma"/>
              </a:rPr>
              <a:t>la mia famiglia</a:t>
            </a:r>
            <a:endParaRPr b="0" i="1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048120" y="304920"/>
            <a:ext cx="3717720" cy="40384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04920" y="1676520"/>
            <a:ext cx="3074760" cy="4952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553080" y="2362320"/>
            <a:ext cx="2289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592600" y="3352680"/>
            <a:ext cx="3270240" cy="33530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809880" y="304920"/>
            <a:ext cx="2522520" cy="3352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2652480" cy="3504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rcRect l="0" t="0" r="62115" b="0"/>
          <a:stretch/>
        </p:blipFill>
        <p:spPr>
          <a:xfrm>
            <a:off x="6550200" y="304920"/>
            <a:ext cx="2108160" cy="3124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228600" y="3871800"/>
            <a:ext cx="388620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8600" y="152280"/>
            <a:ext cx="8686800" cy="655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553080" y="2362320"/>
            <a:ext cx="1182960" cy="12128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974880" cy="1295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981080" y="304920"/>
            <a:ext cx="1211400" cy="1600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095880" y="304920"/>
            <a:ext cx="1122480" cy="1218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rcRect l="0" t="0" r="62115" b="0"/>
          <a:stretch/>
        </p:blipFill>
        <p:spPr>
          <a:xfrm>
            <a:off x="7543800" y="228600"/>
            <a:ext cx="1028880" cy="1523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1143000" y="2743200"/>
            <a:ext cx="1368360" cy="995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3505320" y="2362320"/>
            <a:ext cx="874440" cy="1409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5105520" y="4495680"/>
            <a:ext cx="687240" cy="1282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5800" y="2286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68580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81952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2286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90920" y="2286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743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18288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3244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8381880" y="1599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91520" y="1828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40384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2670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685800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008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657600" y="5943600"/>
            <a:ext cx="480060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ahoma"/>
              </a:rPr>
              <a:t>la mia famiglia</a:t>
            </a:r>
            <a:endParaRPr b="0" i="1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28600" y="152280"/>
            <a:ext cx="8686800" cy="655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553080" y="2362320"/>
            <a:ext cx="1182960" cy="1212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974880" cy="1295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981080" y="304920"/>
            <a:ext cx="1211400" cy="1600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6095880" y="304920"/>
            <a:ext cx="1122480" cy="1218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rcRect l="0" t="0" r="62115" b="0"/>
          <a:stretch/>
        </p:blipFill>
        <p:spPr>
          <a:xfrm>
            <a:off x="7543800" y="228600"/>
            <a:ext cx="1028880" cy="1523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1143000" y="2743200"/>
            <a:ext cx="1368360" cy="995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3505320" y="2362320"/>
            <a:ext cx="874440" cy="1409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5105520" y="4495680"/>
            <a:ext cx="687240" cy="1282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85800" y="22860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8580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81952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52480" y="2286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2286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2743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24480" y="18288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3244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381880" y="1599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91520" y="1828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403848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2670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85800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1008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657600" y="5943600"/>
            <a:ext cx="480060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ahoma"/>
              </a:rPr>
              <a:t>la mia famiglia</a:t>
            </a:r>
            <a:endParaRPr b="0" i="1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2133720" y="4191120"/>
            <a:ext cx="2438280" cy="1600200"/>
          </a:xfrm>
          <a:prstGeom prst="wedgeEllipseCallout">
            <a:avLst>
              <a:gd name="adj1" fmla="val 26953"/>
              <a:gd name="adj2" fmla="val -126486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uesta e’ 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a famiglia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o mi chiamo Daniel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752480"/>
            <a:ext cx="1219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pa, Marco Serafi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95480" y="3049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mma, Sara Pitrel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29200" y="182880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io suocero, Michele Ros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0120" y="1752480"/>
            <a:ext cx="1066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ia suocera, Maria Sere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67280" y="4876920"/>
            <a:ext cx="2438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io figlio, Michele Stec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934320" y="365760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io marito, Mario Ci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37339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ia sorella Giul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22860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O SONO IL PADRE DELLA RAGAZZA CHE PARLA.  FACCIO IL CUOCO ED HO DUE FIGL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14800" y="228600"/>
            <a:ext cx="472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CIO LA STILISTA E SONO LA PROTAGONISTA DELLA STORIA.  MIO PADRE E’ MARCO.  MI CHIAMO DANI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243828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O SONO SARA E UNA DELLE MIE FIGLIE E’ PIL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380988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 CHIAMO GIULIA E HO UN COGN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14800" y="23623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NO MICHELE IL NONNO DEL PICCOLO MICHELE.  FACCIO L’AVVOC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57800" y="365760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O SONO IL PIU’ PICCOLO DELLA FAMIG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57800" y="525780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A MOGLIE E’ STILISTA.  IO FACCIO IL CAMERI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5029200"/>
            <a:ext cx="4267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 UN FIGLIO DI NOME MARIO E SONO NON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 CHIAMO M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9T21:44:05Z</dcterms:created>
  <dc:creator>Preferred Customer</dc:creator>
  <dc:description/>
  <dc:language>en-US</dc:language>
  <cp:lastModifiedBy>VALERIA PALLADINO</cp:lastModifiedBy>
  <cp:lastPrinted>2003-03-10T01:39:12Z</cp:lastPrinted>
  <dcterms:modified xsi:type="dcterms:W3CDTF">2003-10-16T15:18:41Z</dcterms:modified>
  <cp:revision>10</cp:revision>
  <dc:subject/>
  <dc:title>No Slide Title</dc:title>
</cp:coreProperties>
</file>